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5F1E-E012-4066-A7FA-234F95305D9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4AB2-46B8-4BAA-AC5C-B300FD8DFFE0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9227-A1A1-4ED3-98BB-1CEB9DC8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BAD5-A12B-469D-80A0-745B9097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E8C-0F84-4E17-B710-826DF351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2C5-27E2-491C-B908-B78861C8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3752-50A3-47C7-A536-AD858B0B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FDB8-AA40-44B2-8221-A0EB5C00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D51B-1706-4897-AACD-7C7BA303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E397-1EA9-46E1-9633-4732E2C2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DAF2-5AD0-40E3-8C7A-91092402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E6EA-EB77-4BDA-B522-5FE7A8EE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45A7-E897-4D5B-8889-85A5A544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85C-974F-4140-8EE7-B0D36E64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6213-E3F5-4330-B928-C1692687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0086-267C-4E2C-94A4-A99BB761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FBFF-A666-47DC-9627-CDCD240C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D717-5B36-4F66-8C56-F67A347A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FF7E-518D-487D-8C47-BA1F77B2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13CC7-2565-4821-9C9D-7D0E1E37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6CD5-5006-41FC-A9A7-FEEB143B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0071-9FF0-4B9C-990C-0FBADA02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EC95-001B-48F8-AE62-B3E6123F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B5BBF-A9E2-4202-B0FB-44C5CD98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54D-C214-4771-A11E-9B06007C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AE13C-1633-41F3-9E24-DAADBC6D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BD93-D4C7-4EEB-92CB-85550680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DCE8-E838-4196-B06F-896557A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AA88-2468-4B63-A6EF-C6233525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45EA-9964-4C1B-A830-646EA88C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4EAC1-EF04-4E49-BE12-0DE62C45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D54C-0AB2-43D0-8305-6E7EF24E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413AF-7823-4B81-862C-1CFCE2FF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8BE2C-CCEF-4C84-8C04-8A5417BB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B542B-8906-43B0-A9AF-82DD9B77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8DC-3083-4F26-A2CF-66F13FB8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B27A5-8C58-4916-A63F-3DB28885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DF152-8DBB-4D38-A774-AE8EAF00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5783-5D0E-420A-8AB5-FBD405DC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717AA-F362-4BD9-9CE5-E24EB211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ACC55-DB3D-4716-9F8B-E11586A8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5C039-4812-447B-9415-CC061F51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1A60-06B4-4D95-B120-4777B50A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6617E-04C1-4589-A340-90717723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96DA-01B0-47F7-88BA-3EDBD9FE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ECE3D-C459-455D-86E4-7F2006F8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36B-0BC8-4779-84CE-29812666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F3857-120A-4A28-8A22-A69639C0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66E5-48A5-4195-A6C1-81EB4B55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F10A3-CBC5-4A78-80AE-29C10A102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DA93A-CF8E-4579-8F86-264680BC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9EA18-C9B6-4660-870F-8B8BBDCF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3F6E1-7862-4123-83C7-17F39748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6931-1771-43C6-94A0-192356CB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C720E-DDD8-416B-8EB2-80D63E61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67FAD-95BE-4939-BC25-27DAD81F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93E6D-423C-4B14-AA98-2D268324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3E7-E1C3-40E7-9ADE-E864DA29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0240F-0792-4917-AF6F-2299A798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B2E1-5811-4C88-829F-19BCBE79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7D3-761D-421C-B1D4-61E69A6D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FB2-3AB0-487D-8261-42E24536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09F8-DAD5-4BF7-B736-B1941358BC12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3EF0-C907-44A0-BD50-99795E1CC5A2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C1D4-D0B1-43B3-A106-C97FFEB58796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FAD2-FD8F-4803-8A56-87855D9DA0FB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00F7-786B-429C-8AF3-DCBA36A436E7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Franklin Gothic Book"/>
              </a:rPr>
              <a:t>福慧基金會報告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文字方塊 2"/>
          <p:cNvSpPr/>
          <p:nvPr/>
        </p:nvSpPr>
        <p:spPr>
          <a:xfrm>
            <a:off x="4859280" y="328464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101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學年度上學期會務報告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696464"/>
                </a:solidFill>
                <a:latin typeface="Franklin Gothic Book"/>
              </a:rPr>
              <a:t>本學期委員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03280" y="1915920"/>
            <a:ext cx="6337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總務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張耕翰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輔導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黃惠明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、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周桂英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文書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屈慧美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委員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林書萱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11" descr="http://www.my-hiend.com/vbb/images/smilies/5.png"/>
          <p:cNvPicPr/>
          <p:nvPr/>
        </p:nvPicPr>
        <p:blipFill>
          <a:blip r:embed="rId1"/>
          <a:stretch/>
        </p:blipFill>
        <p:spPr>
          <a:xfrm>
            <a:off x="6659640" y="4508640"/>
            <a:ext cx="18860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96464"/>
                </a:solidFill>
                <a:latin typeface="Franklin Gothic Book"/>
              </a:rPr>
              <a:t>活動：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209556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Perpetua"/>
              </a:rPr>
              <a:t>年度─營造永續優質環境衛生計畫─推動學生參與居家至學校</a:t>
            </a:r>
            <a:r>
              <a:rPr b="1" lang="zh-TW" sz="3000" spc="-1" strike="noStrike">
                <a:solidFill>
                  <a:srgbClr val="000000"/>
                </a:solidFill>
                <a:latin typeface="Perpetua"/>
              </a:rPr>
              <a:t>環境巡檢照顧計畫</a:t>
            </a:r>
            <a:r>
              <a:rPr b="0" lang="zh-TW" sz="2800" spc="-1" strike="noStrike">
                <a:solidFill>
                  <a:srgbClr val="000000"/>
                </a:solidFill>
                <a:latin typeface="Perpetua"/>
              </a:rPr>
              <a:t>」得獎禮券，捐至「金山高中福慧基金會」：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500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全家禮券，共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6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份。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Perpetua"/>
              </a:rPr>
              <a:t>經由委員開會同意，將於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01</a:t>
            </a:r>
            <a:r>
              <a:rPr b="0" lang="zh-TW" sz="2800" spc="-1" strike="noStrike">
                <a:solidFill>
                  <a:srgbClr val="000000"/>
                </a:solidFill>
                <a:latin typeface="Perpetua"/>
              </a:rPr>
              <a:t>年度第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Perpetua"/>
              </a:rPr>
              <a:t>學期將禮券發放給：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Perpetua"/>
              </a:rPr>
              <a:t>國中部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13</a:t>
            </a:r>
            <a:r>
              <a:rPr b="0" lang="zh-TW" sz="3200" spc="-1" strike="noStrike">
                <a:solidFill>
                  <a:srgbClr val="000000"/>
                </a:solidFill>
                <a:latin typeface="Perpetua"/>
              </a:rPr>
              <a:t>位與高中部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Perpetua"/>
              </a:rPr>
              <a:t>位中低收入戶學生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圓角矩形 3"/>
          <p:cNvSpPr/>
          <p:nvPr/>
        </p:nvSpPr>
        <p:spPr>
          <a:xfrm>
            <a:off x="755640" y="3500280"/>
            <a:ext cx="5256360" cy="505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圓角矩形 4"/>
          <p:cNvSpPr/>
          <p:nvPr/>
        </p:nvSpPr>
        <p:spPr>
          <a:xfrm>
            <a:off x="771480" y="5697360"/>
            <a:ext cx="7416720" cy="503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4" name="Picture 2" descr="http://www.my-hiend.com/vbb/images/smilies/159.png"/>
          <p:cNvPicPr/>
          <p:nvPr/>
        </p:nvPicPr>
        <p:blipFill>
          <a:blip r:embed="rId1"/>
          <a:stretch/>
        </p:blipFill>
        <p:spPr>
          <a:xfrm>
            <a:off x="5884920" y="0"/>
            <a:ext cx="2790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20640"/>
            <a:ext cx="6033960" cy="936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96464"/>
                </a:solidFill>
                <a:latin typeface="Franklin Gothic Book"/>
              </a:rPr>
              <a:t>福慧感謝您的聆聽</a:t>
            </a:r>
            <a:r>
              <a:rPr b="0" lang="en-US" sz="4800" spc="-1" strike="noStrike">
                <a:solidFill>
                  <a:srgbClr val="696464"/>
                </a:solidFill>
                <a:latin typeface="Franklin Gothic Book"/>
              </a:rPr>
              <a:t>^^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標題 1"/>
          <p:cNvSpPr/>
          <p:nvPr/>
        </p:nvSpPr>
        <p:spPr>
          <a:xfrm>
            <a:off x="5076720" y="5373720"/>
            <a:ext cx="33116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96464"/>
                </a:solidFill>
                <a:latin typeface="Franklin Gothic Book"/>
                <a:ea typeface="微軟正黑體"/>
              </a:rPr>
              <a:t>…</a:t>
            </a:r>
            <a:r>
              <a:rPr b="0" lang="zh-TW" sz="3500" spc="-1" strike="noStrike">
                <a:solidFill>
                  <a:srgbClr val="696464"/>
                </a:solidFill>
                <a:latin typeface="Franklin Gothic Book"/>
                <a:ea typeface="微軟正黑體"/>
              </a:rPr>
              <a:t>請您捐款支持</a:t>
            </a:r>
            <a:r>
              <a:rPr b="0" lang="en-US" sz="3500" spc="-1" strike="noStrike">
                <a:solidFill>
                  <a:srgbClr val="696464"/>
                </a:solidFill>
                <a:latin typeface="Franklin Gothic Book"/>
                <a:ea typeface="微軟正黑體"/>
              </a:rPr>
              <a:t>!</a:t>
            </a:r>
            <a:endParaRPr b="0" lang="en-US" sz="35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7" name="Picture 9" descr="http://www.my-hiend.com/vbb/images/smilies/144.png"/>
          <p:cNvPicPr/>
          <p:nvPr/>
        </p:nvPicPr>
        <p:blipFill>
          <a:blip r:embed="rId1"/>
          <a:stretch/>
        </p:blipFill>
        <p:spPr>
          <a:xfrm>
            <a:off x="1120680" y="2133720"/>
            <a:ext cx="245772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06:05:30Z</dcterms:created>
  <dc:creator>讀者服務組</dc:creator>
  <dc:description/>
  <dc:language>en-US</dc:language>
  <cp:lastModifiedBy>讀者服務組</cp:lastModifiedBy>
  <dcterms:modified xsi:type="dcterms:W3CDTF">2012-08-24T09:05:04Z</dcterms:modified>
  <cp:revision>14</cp:revision>
  <dc:subject/>
  <dc:title>福慧基金會報告</dc:title>
</cp:coreProperties>
</file>